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60B-EA1B-409D-B3A3-EE1425FE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4E3-EF91-43A3-81D0-A3E7D912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653-6C06-48F6-BBBF-1FE2B472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C0F-4EAF-4538-B11F-78580324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92C-687C-4595-B3F8-17A8C14D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733-8239-44FF-B24E-DD4F91FA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8A4-B9AD-4051-BA11-4D29C8B8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5F2-D0A4-49B0-9A2F-644DA1D2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520-046F-4939-856A-8FD34E44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C96-731C-4908-9322-59DF77F4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DB5-A671-4F59-B890-540385E6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9B0-3B2C-4595-9352-048F1770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4B16-7D96-409F-9289-FD844AD6A33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521160"/>
            <a:ext cx="91440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Xiao-Shan G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MMR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Institute of System Scienc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Academia Si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762120"/>
            <a:ext cx="777240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MP/Geome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Automated Generation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Geometric Diagrams and Theorem Proo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mitation of  D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7524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r and compass co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2867040"/>
            <a:ext cx="2514600" cy="17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5105520" y="2892600"/>
          <a:ext cx="2209680" cy="16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892600"/>
                    <a:ext cx="22096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219320" y="464832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find ruler compass co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457200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r compass construction does not ex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Dynamic Geomet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 idea of dynamic geometry and AGDG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Features:  automated generation of ruler and compass construction, general methods for diagram construction. (Intelligent Dra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ipulate geometric diagrams interactively as DG software and does not have the limitation of ruler and compass constr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DG Methods: phase 1 </a:t>
            </a:r>
            <a:br>
              <a:rPr sz="4400"/>
            </a:b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Find a Ruler and Compass constru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epeatedly remove those geometric objects that can be constructed explicitl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EG(v)   </a:t>
            </a: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DOF(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This is a linear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Solves about eighty percent of the problems in geometry textboo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21337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LIM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DG Methods: phase 1 </a:t>
            </a:r>
            <a:br>
              <a:rPr sz="4400"/>
            </a:b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Find a Ruler and Compass constr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6668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Rigid Body Tran, Angle Tran, Parallelogram Tran to solve the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is is a quadratic algorith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 for drawing problems of simple polyg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18288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R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Example of Parallel Trans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0199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DG Methods: phase 2 </a:t>
            </a:r>
            <a:br>
              <a:rPr sz="4400"/>
            </a:b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Numerical Compu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4382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 graph theory to decompose the problem into general construction sequence (GC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1,C2,…,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i are sets of geometric objects such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i can be constructed from C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…C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…C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form a rig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69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Step 1: Generate a GC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DG Methods: phase 2 </a:t>
            </a:r>
            <a:br>
              <a:rPr sz="4400"/>
            </a:b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Numerical Compu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4382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ing a set of algebraic equ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X)=0, … ,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X)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 S(X)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ptimization method to find a minimal value:  S(X0): mini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S(X0) =0, we found a set of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76520"/>
            <a:ext cx="69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Step 2: Compute the GC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Exam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952880" y="1371600"/>
          <a:ext cx="22100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371600"/>
                    <a:ext cx="22100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843200" y="1371600"/>
          <a:ext cx="2043000" cy="15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3200" y="1371600"/>
                    <a:ext cx="20430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066680" y="3200400"/>
          <a:ext cx="7010280" cy="310500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of ci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of Quad Eq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me (Se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3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.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tomated Geometry Reaso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ometry theorem  proving is considered as one of the hardest mental lab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uclid: There is no royal road to geometr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ometry is considered the model of axiomazition and rigorous reaso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 is a benchmark to test a reasoning meth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n Application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Intelligent C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600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uler and Compass Construction: Appolonius problem and C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004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480" y="2789280"/>
            <a:ext cx="4114800" cy="2676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4320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76920" y="2789280"/>
            <a:ext cx="3657600" cy="2697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371600" y="571500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Proble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metric Solution to RC co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line of the tal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P: A Brief 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P/Geometer: Diagram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P/Geometer: Proof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tomated Geometry Reaso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Wu's method: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a coordinate-based method. Applies to Euclidean and differential ge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Area method: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use geometric invariants to prove theorems; can be used to produce human-readable proof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Deductive database metho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: Generate fixpoint for a geometric figure; produce proofs in traditional 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MP/Geome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7524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ed thousands of geometry theorems in elementary, differential geometries and mechan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mated discover of geometric 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human readable proo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multiple and shortest proo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10552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Invites comparison with the best of human geometry provers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u’s Meth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6002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metry Theorem:  HYP  =&gt;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45924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ebraic Statement:  PS=0  =&gt;   G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551664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ed Pro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209680"/>
            <a:ext cx="228600" cy="1295640"/>
          </a:xfrm>
          <a:prstGeom prst="downArrow">
            <a:avLst>
              <a:gd name="adj1" fmla="val 50000"/>
              <a:gd name="adj2" fmla="val 14169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191120"/>
            <a:ext cx="228600" cy="1295280"/>
          </a:xfrm>
          <a:prstGeom prst="downArrow">
            <a:avLst>
              <a:gd name="adj1" fmla="val 50000"/>
              <a:gd name="adj2" fmla="val 1416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251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44197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istic set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u’s Method: 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U-C: For constructive stat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U-G: General version of Wu’s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U-F: Discover geometric form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U-D: General version for differential geome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irst Order Theory for Geomet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asic Stateme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llinea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ralle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qual distance, 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 is a statement =&gt;   </a:t>
            </a:r>
            <a:r>
              <a:rPr b="0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f) is also a stat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,G  are statement  =&gt; F</a:t>
            </a:r>
            <a:r>
              <a:rPr b="0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 are also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 is a statement =&gt; </a:t>
            </a:r>
            <a:r>
              <a:rPr b="0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x(f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对</a:t>
            </a:r>
            <a:r>
              <a:rPr b="0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x(f) are also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4100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u’s method is complete for the first order theory of geometry over the complex numb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ea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mated Produced Pro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AO/CO = S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DBA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/S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DCB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=S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CBA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/S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CBA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48040" y="1219320"/>
            <a:ext cx="3247920" cy="2352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5486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ou,Gao,Zhang: Machine Proof in Geometry, World Scientific, 19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Deductive Database Meth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0666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:   Geometric Axiom/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124080"/>
            <a:ext cx="807732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0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1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2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 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k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ll properties obtained from 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ith 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(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= 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FIXPOIT of reas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3429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209680"/>
            <a:ext cx="510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ward Ch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20760" y="300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3760" y="2971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6120" y="2971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3505320"/>
            <a:ext cx="83808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3429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3429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5715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ou,Gao,Zhang: A Deductive Geometry Database, JAR, 2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5541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Hypotheses of a geometric the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eriment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1447920"/>
          <a:ext cx="7391160" cy="4064040"/>
        </p:xfrm>
        <a:graphic>
          <a:graphicData uri="http://schemas.openxmlformats.org/drawingml/2006/table">
            <a:tbl>
              <a:tblPr/>
              <a:tblGrid>
                <a:gridCol w="2955960"/>
                <a:gridCol w="44352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umber of Theorems Prov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U-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U-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U-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U-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D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Use More Method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32600" y="2224080"/>
            <a:ext cx="67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U-C      WU-G      AREA       D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295596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e Power: Decr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of Quality: Incr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23922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45720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 a variety of proofs with different styles for the same theorem (for CA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523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method has advantage and lim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Application: Stewart Platfor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Positive solution to Stewart Platform is still open (Loc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Has applications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NC Machin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Nano technology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Large scale tele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2886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762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MP: </a:t>
            </a:r>
            <a:br>
              <a:rPr sz="4400"/>
            </a:b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thmatics Mechanization Platfor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s a standalone software system (Windows/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ith Wu-Ritt characteristic set (CS) method as the Cor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aims to mechan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ometry theorem proving and algebraic and differential equation 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with applications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cience and engine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Virtual NC Mach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10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C machine of the 21 centur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hine made of mathematics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52880" y="2709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58880" y="3429000"/>
            <a:ext cx="261792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5257800" y="3429000"/>
            <a:ext cx="2438280" cy="3047760"/>
            <a:chOff x="5257800" y="3429000"/>
            <a:chExt cx="2438280" cy="304776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5257800" y="3429000"/>
              <a:ext cx="2438280" cy="29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839560" y="6348240"/>
              <a:ext cx="132228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57200" y="3049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Application: Stewart Platfor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What is the  Locus of the Orthocenter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When a vertex moves on a circl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44953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wderiv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[[y1,x1,y],[x,a,u,v,r]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A,[0,0],B,[a,0],C,[x1,y1],H,[x,y],O,[u,v]]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[perp,A,H,B,C],[perp,B,H,A,C],[dis,O,C,r]], [], []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200400" y="2286000"/>
          <a:ext cx="20480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286000"/>
                    <a:ext cx="20480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Orthocenter theorem in natrual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wcprov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"Example Orthocenter. Let ABC be a triangle. Point E is the foot  from point A to line BC. Point F is the foot from point B to line AC. Point H is the intersection of line AE and line BF. Show that CH is perpendicular to AB"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Kepler's experimental laws imply Newton's gravitational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Kepler's law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1:Each planet describes an ellipse with the sun in one foc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2:The radius vector drawn from the sun to a planet sweeps out equal areas in equal tim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Newton’s gravitational law: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force is proportional to the inverse of the square of the distance from the sun to the pane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152280"/>
            <a:ext cx="81536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Kepler's experimental laws imply Newton's gravitational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3623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star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pend([a,r,y,x],[t]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wdprov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[[a,r,y,x,p,e],[],[], [r^2-x^2-y^2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^2-x[2]^2-y[2]^2, x*y[2]-x[2]*y, r-p-e*x], [p],[diff(a*r^2,t)]]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space curve satisfies t=k'=0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a circl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ve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wprove_curv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[[],[],[],[t,diff(k,s)],[]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[[FIX_PLANE,C],[FIX_SPHERE,C]]]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0920" y="2911320"/>
            <a:ext cx="306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anks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！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80880" y="3049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 set  meth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295280"/>
            <a:ext cx="7086600" cy="129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Wu-Ritt’s zero decompostion theo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Zero(PS) = ∪Zero(CS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/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=Zero(Sat(CS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26668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quation Systems         Triangular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2895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3352680"/>
            <a:ext cx="708660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…,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=0                      T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(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…,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=0                     T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(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…                                             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(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…,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=0                      T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(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…,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=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114800" y="44190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6095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SOLVE Package by Dingkang W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1150920"/>
            <a:ext cx="76201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MMP/Geometer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Geometric theorem proving, discovering, and diagram generation in Euclidean geometries and differential geometr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MPP/Solition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Find the soliton and traveling-wave solutions for non-linear PDEs and approximate analytical solution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MMP/RealRoot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Find the number of real solutions for a system of algebraic equ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MMP/Linkage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Linkage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MMP/Robots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Simulate 6R serial robotic a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MMP/Blending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Blend surfaces automatic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127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MP Application Modul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MP/Geome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2133720"/>
            <a:ext cx="7391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ometric diagram gener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ometric theorem prov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ometric theorem discov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4640" y="121932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"/>
              </a:rPr>
              <a:t>Goal: automate basic geometric activiti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800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make geometry aliv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D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tomated geometric diagram gener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icture is more than one thousand words.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reality, it is still difficult to generate pictures with computer software, especially for pictures with exact geometric rel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ynamic Geometry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ometric models built by software that can be changed dynamical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asic Operations:  dynamic transformation, dynamic measurement, free dragging, and ani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G Software:  Gabri, Geometer's Sketchpad, Geometry Expert, Cinder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6T06:17:11Z</dcterms:created>
  <dc:creator>mmrc</dc:creator>
  <dc:description/>
  <dc:language>en-US</dc:language>
  <cp:lastModifiedBy>Xiaoshan Gao</cp:lastModifiedBy>
  <dcterms:modified xsi:type="dcterms:W3CDTF">2001-09-23T01:43:13Z</dcterms:modified>
  <cp:revision>327</cp:revision>
  <dc:subject/>
  <dc:title>吴文俊先生工作介绍</dc:title>
</cp:coreProperties>
</file>